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9.jpeg" ContentType="image/jpeg"/>
  <Override PartName="/ppt/media/image11.jpeg" ContentType="image/jpeg"/>
  <Override PartName="/ppt/media/image5.gif" ContentType="image/gif"/>
  <Override PartName="/ppt/media/image31.wmf" ContentType="image/x-wmf"/>
  <Override PartName="/ppt/media/image26.jpeg" ContentType="image/jpeg"/>
  <Override PartName="/ppt/media/image6.jpeg" ContentType="image/jpeg"/>
  <Override PartName="/ppt/media/image27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3.gif" ContentType="image/gif"/>
  <Override PartName="/ppt/media/image30.wmf" ContentType="image/x-wmf"/>
  <Override PartName="/ppt/media/image4.gif" ContentType="image/gif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20E-97A4-43EF-B052-AB5F05E2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449-4B88-4C15-B3E7-08BD8DF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BDF-0599-4CC3-ACB2-4D1FBBEE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8D9-5A5F-4098-A4B0-FB6C887F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5D03-5021-4F67-A18D-5F06D625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0F41-F5E2-4008-950A-C82AF2FE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72F2-CFEA-4AB5-AA28-FDF3D757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FA34-A52B-4A0B-88D8-354267B0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D345-DE92-4E6E-8959-0ACFAAC4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E47-D6D7-479D-9DF3-07B4CA01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A7B1-C32B-46D6-AEF6-3576050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DC3-3C21-402E-A122-F31B636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0B6-EAC5-412C-9E94-2F1EDC0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A8BA-FE89-4CC1-9CD6-C2FCB56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3363-8A7D-4102-81F4-110FCCF7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C187-D7E3-49E0-9FA9-AA55AE3F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3AAF-76B6-4D5D-9745-4686B600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A5E-481D-456D-875D-94716837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B68-F482-4981-B1FE-35CD0EA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74C-ECB3-4F53-A62F-9854674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4C8-A22E-4C74-891D-288D4B1D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9D8-3C79-4F24-B840-0677ECFA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26F-CD37-46E3-B76C-F800907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6C3-1DB8-4774-9EDD-3C65837C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46E-0CBC-4DA1-8F44-4B325C794926}" type="slidenum">
              <a:rPr b="0" lang="es-E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BD99-4408-4E44-A073-87B7D3984A00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ransportes%202.ppt" TargetMode="External"/><Relationship Id="rId2" Type="http://schemas.openxmlformats.org/officeDocument/2006/relationships/image" Target="../media/image7.gif"/><Relationship Id="rId3" Type="http://schemas.openxmlformats.org/officeDocument/2006/relationships/hyperlink" Target="file:///transportes%202.ppt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transportes%202.ppt" TargetMode="External"/><Relationship Id="rId6" Type="http://schemas.openxmlformats.org/officeDocument/2006/relationships/image" Target="../media/image6.jpeg"/><Relationship Id="rId7" Type="http://schemas.openxmlformats.org/officeDocument/2006/relationships/hyperlink" Target="file:///transportes%202.ppt" TargetMode="External"/><Relationship Id="rId8" Type="http://schemas.openxmlformats.org/officeDocument/2006/relationships/image" Target="../media/image9.jpeg"/><Relationship Id="rId9" Type="http://schemas.openxmlformats.org/officeDocument/2006/relationships/hyperlink" Target="file:///transportes%202.ppt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file:///transportes%202.ppt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ransportes%202.ppt" TargetMode="External"/><Relationship Id="rId2" Type="http://schemas.openxmlformats.org/officeDocument/2006/relationships/image" Target="../media/image7.gif"/><Relationship Id="rId3" Type="http://schemas.openxmlformats.org/officeDocument/2006/relationships/hyperlink" Target="file:///transportes%202.ppt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transportes%202.ppt" TargetMode="External"/><Relationship Id="rId6" Type="http://schemas.openxmlformats.org/officeDocument/2006/relationships/image" Target="../media/image14.jpeg"/><Relationship Id="rId7" Type="http://schemas.openxmlformats.org/officeDocument/2006/relationships/hyperlink" Target="file:///transportes%202.ppt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11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image" Target="../media/image4.gif"/><Relationship Id="rId4" Type="http://schemas.openxmlformats.org/officeDocument/2006/relationships/image" Target="../media/image32.jpeg"/><Relationship Id="rId5" Type="http://schemas.openxmlformats.org/officeDocument/2006/relationships/image" Target="../media/image19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rs.yahoo.com/S=2114714014/K=COCHE/v=2/SID=w/l=IVI/;_ylt=AlWbcNoVRnQ4TbmMxzPFZUWe.Qt.;_ylu=X3oDMTA4NDgyNWN0BHNlYwNwcm9m/SIG=11u7kh6s4/EXP=1112275986/*-http%3A//www.rodpas.com.mx/collage/coche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hyperlink" Target="http://es.wrs.yahoo.com/S=2114714014/K=COCHE/v=2/SID=w/l=IVI/;_ylt=AlWbcNoVRnQ4TbmMxzPFZUWe.Qt.;_ylu=X3oDMTA4NDgyNWN0BHNlYwNwcm9m/SIG=11u7kh6s4/EXP=1112275986/*-http%3A//www.rodpas.com.mx/collage/coche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s.wrs.yahoo.com/S=2114714014/K=TRACTOR/v=2/SID=w/l=IVI/;_ylt=AlWbcNoVRnQ4TbmMxzPFZUWe.Qt.;_ylu=X3oDMTA4NDgyNWN0BHNlYwNwcm9m/SIG=12knok451/EXP=1112375483/*-http%3A//www.aad.gov.au/asset/images/300_ul-John_Deere_tractor.jpg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4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2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e9"/>
                </a:solidFill>
                <a:latin typeface="Times New Roman"/>
              </a:rPr>
              <a:t>LOS TRANSPOR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99840" y="5105160"/>
            <a:ext cx="571500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2º EDUCACIÓN PRIMA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Picture 10" descr="C:\WINDOWS\Profiles\VERÓNICA\Application Data\Microsoft\Media Catalog\Downloaded Clips\cl86\j0336325.gif"/>
          <p:cNvPicPr/>
          <p:nvPr/>
        </p:nvPicPr>
        <p:blipFill>
          <a:blip r:embed="rId2"/>
          <a:stretch/>
        </p:blipFill>
        <p:spPr>
          <a:xfrm>
            <a:off x="5410080" y="3505320"/>
            <a:ext cx="3124440" cy="141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WINDOWS\Profiles\VERÓNICA\Application Data\Microsoft\Media Catalog\Downloaded Clips\cl7f\j0318090.gif"/>
          <p:cNvPicPr/>
          <p:nvPr/>
        </p:nvPicPr>
        <p:blipFill>
          <a:blip r:embed="rId3"/>
          <a:stretch/>
        </p:blipFill>
        <p:spPr>
          <a:xfrm>
            <a:off x="838080" y="228600"/>
            <a:ext cx="19814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92805"/>
                </a:solidFill>
                <a:latin typeface="Times New Roman"/>
              </a:rPr>
              <a:t>OTROS TRANSPORTES MARÍTIMO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09480" y="3581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CANO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5" name="Picture 6" descr="Ampliar la imagen"/>
          <p:cNvPicPr/>
          <p:nvPr/>
        </p:nvPicPr>
        <p:blipFill>
          <a:blip r:embed="rId1"/>
          <a:stretch/>
        </p:blipFill>
        <p:spPr>
          <a:xfrm>
            <a:off x="6248520" y="4114800"/>
            <a:ext cx="2133360" cy="1587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6248520" y="5715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PIRAGU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11" descr="https://www.a-alvarez.com/tienda/img/productos/N100806.jpg"/>
          <p:cNvPicPr/>
          <p:nvPr/>
        </p:nvPicPr>
        <p:blipFill>
          <a:blip r:embed="rId2"/>
          <a:stretch/>
        </p:blipFill>
        <p:spPr>
          <a:xfrm>
            <a:off x="4267080" y="1828800"/>
            <a:ext cx="2819520" cy="1574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4267080" y="3352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BALS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9" name="Picture 14" descr="http://es.wrs.yahoo.com/S=2114714014/K=CANOA/v=2/SID=w/l=IVI/;_ylt=AuFtr2TGju324QSPWxBrvPKe.Qt.;_ylu=X3oDMTA4NDgyNWN0BHNlYwNwcm9m/SIG=127d126tu/EXP=1112531199/*-http%3A//www.comunecervia.it/turismo/photos/canoa.jpg"/>
          <p:cNvPicPr/>
          <p:nvPr/>
        </p:nvPicPr>
        <p:blipFill>
          <a:blip r:embed="rId3"/>
          <a:stretch/>
        </p:blipFill>
        <p:spPr>
          <a:xfrm>
            <a:off x="304920" y="190512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NITRO"/>
          <p:cNvPicPr/>
          <p:nvPr/>
        </p:nvPicPr>
        <p:blipFill>
          <a:blip r:embed="rId4"/>
          <a:stretch/>
        </p:blipFill>
        <p:spPr>
          <a:xfrm>
            <a:off x="2133720" y="4191120"/>
            <a:ext cx="2514600" cy="1571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7"/>
          <p:cNvSpPr/>
          <p:nvPr/>
        </p:nvSpPr>
        <p:spPr>
          <a:xfrm>
            <a:off x="2209680" y="5638680"/>
            <a:ext cx="221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408f0"/>
                </a:solidFill>
                <a:latin typeface="Times New Roman"/>
              </a:rPr>
              <a:t>LANCHA MOTORA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0"/>
            <a:ext cx="805032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92805"/>
                </a:solidFill>
                <a:latin typeface="Times New Roman"/>
              </a:rPr>
              <a:t>LOS TRANSPORTES PUEDEN SER: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28880" indent="11664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TRANSPORTES PÚBLIC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PUEDEN SER UTILIZADOS POR TODAS LAS PERSON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4" name="Picture 5" descr="C:\WINDOWS\Profiles\VERÓNICA\Application Data\Microsoft\Media Catalog\Downloaded Clips\cl4c\j0191845.wmf"/>
          <p:cNvPicPr/>
          <p:nvPr/>
        </p:nvPicPr>
        <p:blipFill>
          <a:blip r:embed="rId1"/>
          <a:stretch/>
        </p:blipFill>
        <p:spPr>
          <a:xfrm>
            <a:off x="5943600" y="4495680"/>
            <a:ext cx="264168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Archivos de programa\Microsoft Office\Clipart\Pub60Cor\TN00211_.wmf"/>
          <p:cNvPicPr/>
          <p:nvPr/>
        </p:nvPicPr>
        <p:blipFill>
          <a:blip r:embed="rId2"/>
          <a:stretch/>
        </p:blipFill>
        <p:spPr>
          <a:xfrm>
            <a:off x="228600" y="4876920"/>
            <a:ext cx="4314960" cy="1714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4800600" y="1752480"/>
            <a:ext cx="3733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spcBef>
                <a:spcPts val="1749"/>
              </a:spcBef>
              <a:buClr>
                <a:srgbClr val="0026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TRANSPORTES PRIVADOS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LOS UTILIZAN LAS PERSONAS QUE LO HAN COMPR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¿CUÁLES DE ESTOS TRANSPORTES SON PÚBLICOS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8" name="Picture 5" descr="C:\WINDOWS\Profiles\VERÓNICA\Application Data\Microsoft\Media Catalog\Downloaded Clips\cl0\AG00165_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819160" cy="10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Ampliar la ima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2361960" cy="1761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www.rodpas.com.mx/collage/coch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4336920"/>
            <a:ext cx="2438280" cy="172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mpliar la imag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4114800"/>
            <a:ext cx="2305080" cy="160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Ampliar la image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905120"/>
            <a:ext cx="230508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http://www.aresa.es/cas/img/medi_cata_pr02_bicicleta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4255920"/>
            <a:ext cx="264492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33"/>
                </a:solidFill>
                <a:latin typeface="Times New Roman"/>
              </a:rPr>
              <a:t>¿CUÁLES SON PRIVAD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5" name="Picture 3" descr="C:\WINDOWS\Profiles\VERÓNICA\Application Data\Microsoft\Media Catalog\Downloaded Clips\cl0\AG00165_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819160" cy="105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Ampliar la ima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2361960" cy="1761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mpliar la imag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1905120"/>
            <a:ext cx="2305080" cy="153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rodpas.com.mx/collage/coch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4336920"/>
            <a:ext cx="2438280" cy="172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http://www.aresa.es/cas/img/medi_cata_pr02_bicicleta.jpg"/>
          <p:cNvPicPr/>
          <p:nvPr/>
        </p:nvPicPr>
        <p:blipFill>
          <a:blip r:embed="rId9"/>
          <a:stretch/>
        </p:blipFill>
        <p:spPr>
          <a:xfrm>
            <a:off x="3352680" y="4255920"/>
            <a:ext cx="2644920" cy="153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Ampliar la imagen"/>
          <p:cNvPicPr/>
          <p:nvPr/>
        </p:nvPicPr>
        <p:blipFill>
          <a:blip r:embed="rId10"/>
          <a:stretch/>
        </p:blipFill>
        <p:spPr>
          <a:xfrm>
            <a:off x="6477120" y="4114800"/>
            <a:ext cx="2305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PERO...</a:t>
            </a: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Los transportes también se pueden agrupar en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ÚRBANOS: se utilizan para desplazarse en los pueblos o ciudad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73" name="Picture 4" descr="C:\Archivos de programa\Microsoft Office\Clipart\Pub60Cor\TN00211_.wmf"/>
          <p:cNvPicPr/>
          <p:nvPr/>
        </p:nvPicPr>
        <p:blipFill>
          <a:blip r:embed="rId1"/>
          <a:stretch/>
        </p:blipFill>
        <p:spPr>
          <a:xfrm>
            <a:off x="5410080" y="3276720"/>
            <a:ext cx="286704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aad.gov.au/asset/images/300_ul-John_Deere_tractor.jpg"/>
          <p:cNvPicPr/>
          <p:nvPr/>
        </p:nvPicPr>
        <p:blipFill>
          <a:blip r:embed="rId2"/>
          <a:stretch/>
        </p:blipFill>
        <p:spPr>
          <a:xfrm>
            <a:off x="533520" y="487692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609480" y="42670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13080" y="4267080"/>
            <a:ext cx="78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RURALES: se utilizan para trabajar en el camp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WINDOWS\Profiles\VERÓNICA\Application Data\Microsoft\Media Catalog\Downloaded Clips\cl86\j0336590.gif"/>
          <p:cNvPicPr/>
          <p:nvPr/>
        </p:nvPicPr>
        <p:blipFill>
          <a:blip r:embed="rId1"/>
          <a:stretch/>
        </p:blipFill>
        <p:spPr>
          <a:xfrm>
            <a:off x="3276720" y="427212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Ampliar la imagen"/>
          <p:cNvPicPr/>
          <p:nvPr/>
        </p:nvPicPr>
        <p:blipFill>
          <a:blip r:embed="rId2"/>
          <a:stretch/>
        </p:blipFill>
        <p:spPr>
          <a:xfrm>
            <a:off x="380880" y="22096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264c"/>
                </a:solidFill>
                <a:latin typeface="Times New Roman"/>
              </a:rPr>
              <a:t>¿CÓMO SON ESTOS TRANSPORTES?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Picture 14" descr="http://www.aad.gov.au/asset/images/300_ul-John_Deere_tractor.jpg"/>
          <p:cNvPicPr/>
          <p:nvPr/>
        </p:nvPicPr>
        <p:blipFill>
          <a:blip r:embed="rId3"/>
          <a:stretch/>
        </p:blipFill>
        <p:spPr>
          <a:xfrm>
            <a:off x="6302520" y="2286000"/>
            <a:ext cx="236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SEÑALA LOS MEDIOS DE TRANSPORTE MARÍTI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2" name="Picture 3" descr="http://www.rodpas.com.mx/collage/coche.JPG"/>
          <p:cNvPicPr/>
          <p:nvPr/>
        </p:nvPicPr>
        <p:blipFill>
          <a:blip r:embed="rId1"/>
          <a:stretch/>
        </p:blipFill>
        <p:spPr>
          <a:xfrm>
            <a:off x="380880" y="4724280"/>
            <a:ext cx="2438640" cy="172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Ampliar la imagen"/>
          <p:cNvPicPr/>
          <p:nvPr/>
        </p:nvPicPr>
        <p:blipFill>
          <a:blip r:embed="rId2"/>
          <a:stretch/>
        </p:blipFill>
        <p:spPr>
          <a:xfrm>
            <a:off x="3657600" y="4267080"/>
            <a:ext cx="1657440" cy="213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WINDOWS\Profiles\VERÓNICA\Application Data\Microsoft\Media Catalog\Downloaded Clips\cl86\j0336325.gif"/>
          <p:cNvPicPr/>
          <p:nvPr/>
        </p:nvPicPr>
        <p:blipFill>
          <a:blip r:embed="rId3"/>
          <a:stretch/>
        </p:blipFill>
        <p:spPr>
          <a:xfrm>
            <a:off x="2971800" y="2362320"/>
            <a:ext cx="2781360" cy="12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mpliar la imagen"/>
          <p:cNvPicPr/>
          <p:nvPr/>
        </p:nvPicPr>
        <p:blipFill>
          <a:blip r:embed="rId4"/>
          <a:stretch/>
        </p:blipFill>
        <p:spPr>
          <a:xfrm>
            <a:off x="380880" y="2209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WINDOWS\Profiles\VERÓNICA\Application Data\Microsoft\Media Catalog\Downloaded Clips\cl86\j0336590.gif"/>
          <p:cNvPicPr/>
          <p:nvPr/>
        </p:nvPicPr>
        <p:blipFill>
          <a:blip r:embed="rId5"/>
          <a:stretch/>
        </p:blipFill>
        <p:spPr>
          <a:xfrm>
            <a:off x="6477120" y="4343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WINDOWS\Profiles\VERÓNICA\Application Data\Microsoft\Media Catalog\Downloaded Clips\cl73\j0289282.jpg"/>
          <p:cNvPicPr/>
          <p:nvPr/>
        </p:nvPicPr>
        <p:blipFill>
          <a:blip r:embed="rId6"/>
          <a:stretch/>
        </p:blipFill>
        <p:spPr>
          <a:xfrm>
            <a:off x="6248520" y="1981080"/>
            <a:ext cx="2438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NORMAS DE RESPETO EN EL TRANSPORTE PÚBLICO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PARA SUBIR O BAJAR, ESPERAR A QUE SE PARE DEL TODO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NO IMPEDIR EL PASO A LA GENTE POR EL PASILLO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NO SACAR LA CABEZA O BRAZOS POR LA VENTANILLA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NO MOLESTAR AL CONDUCTOR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75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75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75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33"/>
                </a:solidFill>
                <a:latin typeface="Times New Roman"/>
              </a:rPr>
              <a:t>ACTIVIDADE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s-ES_tradnl" sz="4600" spc="-1" strike="noStrike">
                <a:solidFill>
                  <a:srgbClr val="00264c"/>
                </a:solidFill>
                <a:latin typeface="Times New Roman"/>
              </a:rPr>
              <a:t>LIBRO DE CONOCIMIENTO DEL MEDIO. PÁGINA 111.</a:t>
            </a:r>
            <a:endParaRPr b="0" lang="en-US" sz="4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¿QUÉ VAMOS A APRENDER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TRANSPORTES TERRESTRES, AÉREOS Y MARÍTIM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TRANSPORTES PÚBLICOS Y PRIVAD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TRANSPORTES URBANOS Y RURAL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NORMAS DE RESPETO EN EL TRANSPORTE PÚBLIC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2824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92805"/>
                </a:solidFill>
                <a:latin typeface="Times New Roman"/>
              </a:rPr>
              <a:t>¿QUÉ SON LOS TRANSPORTES?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es-ES_tradnl" sz="7200" spc="-1" strike="noStrike">
                <a:solidFill>
                  <a:srgbClr val="00264c"/>
                </a:solidFill>
                <a:latin typeface="Times New Roman"/>
              </a:rPr>
              <a:t>Los transportes los utilizamos para movernos por la localidad.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¿QUÉ CONOCES DE ESTOS TRANSPORTE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3" descr="http://www.rodpas.com.mx/collage/coch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057400"/>
            <a:ext cx="2210040" cy="156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WINDOWS\Profiles\VERÓNICA\Application Data\Microsoft\Media Catalog\Downloaded Clips\cl0\AG00165_.gif"/>
          <p:cNvPicPr/>
          <p:nvPr/>
        </p:nvPicPr>
        <p:blipFill>
          <a:blip r:embed="rId3"/>
          <a:stretch/>
        </p:blipFill>
        <p:spPr>
          <a:xfrm>
            <a:off x="4648320" y="3276720"/>
            <a:ext cx="3581280" cy="13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WINDOWS\Profiles\VERÓNICA\Application Data\Microsoft\Media Catalog\Downloaded Clips\cl73\j0289282.jpg"/>
          <p:cNvPicPr/>
          <p:nvPr/>
        </p:nvPicPr>
        <p:blipFill>
          <a:blip r:embed="rId4"/>
          <a:stretch/>
        </p:blipFill>
        <p:spPr>
          <a:xfrm>
            <a:off x="533520" y="4648320"/>
            <a:ext cx="26668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6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92805"/>
                </a:solidFill>
                <a:latin typeface="Times New Roman"/>
              </a:rPr>
              <a:t>TRANSPORTES TERRESTRES: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SON LOS QUE CIRCULAN POR LA TIERRA. POR EJEMPL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6" name="Picture 4" descr="Ampliar la imagen"/>
          <p:cNvPicPr/>
          <p:nvPr/>
        </p:nvPicPr>
        <p:blipFill>
          <a:blip r:embed="rId2"/>
          <a:stretch/>
        </p:blipFill>
        <p:spPr>
          <a:xfrm>
            <a:off x="7086600" y="4876920"/>
            <a:ext cx="2057400" cy="14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www.rodpas.com.mx/collage/coch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952880"/>
            <a:ext cx="182880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aad.gov.au/asset/images/300_ul-John_Deere_tracto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800600"/>
            <a:ext cx="150192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://www.aresa.es/cas/img/medi_cata_pr02_bicicleta.jpg"/>
          <p:cNvPicPr/>
          <p:nvPr/>
        </p:nvPicPr>
        <p:blipFill>
          <a:blip r:embed="rId7"/>
          <a:stretch/>
        </p:blipFill>
        <p:spPr>
          <a:xfrm>
            <a:off x="304920" y="3124080"/>
            <a:ext cx="1981080" cy="11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mpliar la imagen"/>
          <p:cNvPicPr/>
          <p:nvPr/>
        </p:nvPicPr>
        <p:blipFill>
          <a:blip r:embed="rId8"/>
          <a:stretch/>
        </p:blipFill>
        <p:spPr>
          <a:xfrm>
            <a:off x="6095880" y="2743200"/>
            <a:ext cx="2210040" cy="164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WINDOWS\Profiles\VERÓNICA\Application Data\Microsoft\Media Catalog\Downloaded Clips\cl86\j0336325.gif"/>
          <p:cNvPicPr/>
          <p:nvPr/>
        </p:nvPicPr>
        <p:blipFill>
          <a:blip r:embed="rId9"/>
          <a:stretch/>
        </p:blipFill>
        <p:spPr>
          <a:xfrm>
            <a:off x="2971800" y="3124080"/>
            <a:ext cx="2438280" cy="110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:\WINDOWS\Profiles\VERÓNICA\Application Data\Microsoft\Media Catalog\Downloaded Clips\cl86\j0336322.gif"/>
          <p:cNvPicPr/>
          <p:nvPr/>
        </p:nvPicPr>
        <p:blipFill>
          <a:blip r:embed="rId10"/>
          <a:stretch/>
        </p:blipFill>
        <p:spPr>
          <a:xfrm>
            <a:off x="4267080" y="5105520"/>
            <a:ext cx="24544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320" y="283680"/>
            <a:ext cx="774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92805"/>
                </a:solidFill>
                <a:latin typeface="Times New Roman"/>
              </a:rPr>
              <a:t>OTROS TRANSPORTES TERRESTRES SON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9480" y="3657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TRANVÍ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5" name="Picture 6" descr="Ampliar la imagen"/>
          <p:cNvPicPr/>
          <p:nvPr/>
        </p:nvPicPr>
        <p:blipFill>
          <a:blip r:embed="rId1"/>
          <a:stretch/>
        </p:blipFill>
        <p:spPr>
          <a:xfrm>
            <a:off x="6172200" y="4267080"/>
            <a:ext cx="2438280" cy="1625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934320" y="5943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TAX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7" name="Picture 9" descr="Ampliar la imagen"/>
          <p:cNvPicPr/>
          <p:nvPr/>
        </p:nvPicPr>
        <p:blipFill>
          <a:blip r:embed="rId2"/>
          <a:stretch/>
        </p:blipFill>
        <p:spPr>
          <a:xfrm>
            <a:off x="533520" y="4419720"/>
            <a:ext cx="2590560" cy="1720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762120" y="6019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METR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Picture 12" descr="Ampliar la imagen"/>
          <p:cNvPicPr/>
          <p:nvPr/>
        </p:nvPicPr>
        <p:blipFill>
          <a:blip r:embed="rId3"/>
          <a:stretch/>
        </p:blipFill>
        <p:spPr>
          <a:xfrm>
            <a:off x="3657600" y="4191120"/>
            <a:ext cx="1871640" cy="1904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505320" y="6019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PATINET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1" name="Picture 21" descr="http://es.wrs.yahoo.com/S=2114714014/K=MONORRAIL/v=2/SID=w/l=IVI/;_ylt=AuFtr2TGju324QSPWxBrvPKe.Qt.;_ylu=X3oDMTA4NDgyNWN0BHNlYwNwcm9m/SIG=12a5qeuqp/EXP=1112379446/*-http%3A//www.cps.unizar.es/~transp/Ferrocarriles/f14.gif"/>
          <p:cNvPicPr/>
          <p:nvPr/>
        </p:nvPicPr>
        <p:blipFill>
          <a:blip r:embed="rId4"/>
          <a:stretch/>
        </p:blipFill>
        <p:spPr>
          <a:xfrm>
            <a:off x="4800600" y="1828800"/>
            <a:ext cx="304812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2"/>
          <p:cNvSpPr/>
          <p:nvPr/>
        </p:nvSpPr>
        <p:spPr>
          <a:xfrm>
            <a:off x="495288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MONORRAÍ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3" name="Picture 24" descr="http://es.wrs.yahoo.com/S=2114714014/K=TRANVIA/v=2/SID=w/l=IVI/;_ylt=AuFtr2TGju324QSPWxBrvPKe.Qt.;_ylu=X3oDMTA4NDgyNWN0BHNlYwNwcm9m/SIG=12kb3igsn/EXP=1112543350/*-http%3A//www.cuerpo8.es/STOL/reportajes/imgtrenesrenfe/Tranvia.jpg"/>
          <p:cNvPicPr/>
          <p:nvPr/>
        </p:nvPicPr>
        <p:blipFill>
          <a:blip r:embed="rId5"/>
          <a:stretch/>
        </p:blipFill>
        <p:spPr>
          <a:xfrm>
            <a:off x="685800" y="1828800"/>
            <a:ext cx="28954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TRANSPORTES AÉREO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SON AQUELLOS QUE VAN POR EL AIRE. POR EJEMPL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6" name="Picture 4" descr="C:\WINDOWS\Profiles\VERÓNICA\Application Data\Microsoft\Media Catalog\Downloaded Clips\cl0\AG00165_.gif"/>
          <p:cNvPicPr/>
          <p:nvPr/>
        </p:nvPicPr>
        <p:blipFill>
          <a:blip r:embed="rId2"/>
          <a:stretch/>
        </p:blipFill>
        <p:spPr>
          <a:xfrm>
            <a:off x="5562720" y="3124080"/>
            <a:ext cx="2819160" cy="1057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WINDOWS\Profiles\VERÓNICA\Application Data\Microsoft\Media Catalog\Downloaded Clips\cl86\j0336590.gif"/>
          <p:cNvPicPr/>
          <p:nvPr/>
        </p:nvPicPr>
        <p:blipFill>
          <a:blip r:embed="rId3"/>
          <a:stretch/>
        </p:blipFill>
        <p:spPr>
          <a:xfrm>
            <a:off x="304920" y="5257800"/>
            <a:ext cx="1752480" cy="13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Ampliar la imagen"/>
          <p:cNvPicPr/>
          <p:nvPr/>
        </p:nvPicPr>
        <p:blipFill>
          <a:blip r:embed="rId4"/>
          <a:stretch/>
        </p:blipFill>
        <p:spPr>
          <a:xfrm>
            <a:off x="4572000" y="4495680"/>
            <a:ext cx="161280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Ampliar la imagen"/>
          <p:cNvPicPr/>
          <p:nvPr/>
        </p:nvPicPr>
        <p:blipFill>
          <a:blip r:embed="rId5"/>
          <a:stretch/>
        </p:blipFill>
        <p:spPr>
          <a:xfrm>
            <a:off x="2133720" y="3124080"/>
            <a:ext cx="1528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92805"/>
                </a:solidFill>
                <a:latin typeface="Times New Roman"/>
              </a:rPr>
              <a:t>OTROS TRANSPORTES AÉREO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1" name="Picture 3" descr="Ampliar la imagen"/>
          <p:cNvPicPr/>
          <p:nvPr/>
        </p:nvPicPr>
        <p:blipFill>
          <a:blip r:embed="rId1"/>
          <a:stretch/>
        </p:blipFill>
        <p:spPr>
          <a:xfrm>
            <a:off x="5029200" y="4419720"/>
            <a:ext cx="2705040" cy="193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Ampliar la imagen"/>
          <p:cNvPicPr/>
          <p:nvPr/>
        </p:nvPicPr>
        <p:blipFill>
          <a:blip r:embed="rId2"/>
          <a:stretch/>
        </p:blipFill>
        <p:spPr>
          <a:xfrm>
            <a:off x="609480" y="2057400"/>
            <a:ext cx="228600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124080" y="2209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ALA DELT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14600" y="5486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DIRIGIB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TRANSPORTES MARÍTIMO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SON AQUELLOS QUE VAN POR EL AGUA. POR EJEMPL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0040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SUBMARIN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5530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VELER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0948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BAR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0" name="Picture 12" descr="Ampliar la imagen"/>
          <p:cNvPicPr/>
          <p:nvPr/>
        </p:nvPicPr>
        <p:blipFill>
          <a:blip r:embed="rId2"/>
          <a:stretch/>
        </p:blipFill>
        <p:spPr>
          <a:xfrm>
            <a:off x="6705720" y="3276720"/>
            <a:ext cx="1657080" cy="2133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www.mgar.net/mar/images/submari2.jpg"/>
          <p:cNvPicPr/>
          <p:nvPr/>
        </p:nvPicPr>
        <p:blipFill>
          <a:blip r:embed="rId3"/>
          <a:stretch/>
        </p:blipFill>
        <p:spPr>
          <a:xfrm>
            <a:off x="3124080" y="3429000"/>
            <a:ext cx="2971800" cy="183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C:\WINDOWS\Profiles\VERÓNICA\Application Data\Microsoft\Media Catalog\Downloaded Clips\cl73\j0289282.jpg"/>
          <p:cNvPicPr/>
          <p:nvPr/>
        </p:nvPicPr>
        <p:blipFill>
          <a:blip r:embed="rId4"/>
          <a:stretch/>
        </p:blipFill>
        <p:spPr>
          <a:xfrm>
            <a:off x="228600" y="3505320"/>
            <a:ext cx="26668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3:18:00Z</dcterms:created>
  <dc:creator>USUARIO</dc:creator>
  <dc:description/>
  <dc:language>en-US</dc:language>
  <cp:lastModifiedBy>Inglés</cp:lastModifiedBy>
  <dcterms:modified xsi:type="dcterms:W3CDTF">2010-06-11T09:05:42Z</dcterms:modified>
  <cp:revision>24</cp:revision>
  <dc:subject/>
  <dc:title>LOS TRANSPORTES</dc:title>
</cp:coreProperties>
</file>